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4D79-A0A7-471D-8ACA-7FE31A41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3FA8-AB6F-47F4-9EEB-5C07FB8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FC4D-EB40-4CF4-885F-2BC9A0BD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0AAA-5EF2-4DBD-9F70-DAC4CDD1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E38C-1735-403F-90B1-8E0854D5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6E4-1194-40C7-8E84-5B33D3AE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EF19-12C4-41F8-8AE4-FF33F72F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2D33-BD8D-45F2-A1CF-5494207E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E661-EE0A-4B67-9AD5-DBAC3F1D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8353-6256-4868-91B1-7E9E6042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B3D6-3101-4157-9954-E6C471B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1E49-5803-4E37-8F06-FEA4E7C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C46E-D98F-4B08-98F6-1D3CFEE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73F1-FA69-44DC-A8BA-16607A99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6182-3141-43A3-8047-E52BC770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5623-F972-433A-ACD8-FA29E0F8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CD22-2E28-49D2-9783-CBFFE6D5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A10F-5D76-4BD8-8BF8-E433D06C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09FF-A425-4708-8089-2DBB399A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39C2-BC36-45A7-89B3-B070393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BAE6-D9B8-4E3A-9A5F-6DC7DF7C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A7CB-2EA0-4C4E-AF6C-87C4D7C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BE79-66F1-4CB9-A120-AC50CC93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67B4-5142-40E1-854A-3F22191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C87-4A4C-483E-B519-D5228D984C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4D72-3B10-45D8-BEB5-441489EB82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ulticultural Australi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sealee Pea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vember 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0160" cy="1700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8880" y="149400"/>
            <a:ext cx="62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mou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s a young woman from a Sudanese backgro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1971720" cy="93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11640" y="1413000"/>
            <a:ext cx="1728720" cy="1228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308720" y="4581360"/>
            <a:ext cx="1346400" cy="136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0920" y="4797360"/>
            <a:ext cx="1795320" cy="107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69760" y="9810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has arrived on her own and her families are still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refugee camps in Keny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15200" y="22766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is 22 and lives by hersel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290880" y="2997360"/>
            <a:ext cx="9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has never lived in the city, but has caught on quickly working out public trans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12680" y="3645000"/>
            <a:ext cx="46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wants to learn how the system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43920" y="4149720"/>
            <a:ext cx="89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wants to keep improving her English and doesn’t know what she wants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3480" y="5877000"/>
            <a:ext cx="91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feels isolated and isn’t actively involved with the Sudanese community th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would like to 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5192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92360" y="5316480"/>
            <a:ext cx="1368720" cy="1541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127320" cy="156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334280" y="515772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556000" y="620640"/>
            <a:ext cx="1600200" cy="180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9257600">
            <a:off x="-358920" y="764640"/>
            <a:ext cx="37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ary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as just moved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new suburb and was a teac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years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42280" y="5392800"/>
            <a:ext cx="286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veryone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ound her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ng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icipating in life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fe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visi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96960" y="3500280"/>
            <a:ext cx="345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is feeling depressed ab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er life and fe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ke there is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urpose in her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y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420480" y="2708280"/>
            <a:ext cx="403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She has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health needs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and wants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stay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ouch with her children wh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live in another state but doesn’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know how to use a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2637000"/>
            <a:ext cx="2259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i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n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doesn’t k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one in the local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3:30:58Z</dcterms:created>
  <dc:creator>RAC</dc:creator>
  <dc:description/>
  <dc:language>en-US</dc:language>
  <cp:lastModifiedBy>RAC</cp:lastModifiedBy>
  <dcterms:modified xsi:type="dcterms:W3CDTF">2010-11-01T00:03:01Z</dcterms:modified>
  <cp:revision>6</cp:revision>
  <dc:subject/>
  <dc:title>Multicultural Australia</dc:title>
</cp:coreProperties>
</file>